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7FA-A741-411B-8A98-CD29373B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9FC-50BE-4844-8707-A3A036BA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A8A-95E9-4E44-A8EE-BB2867B3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CF2-F8B4-46D6-BC86-0F098D9F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D8B6-9681-432D-B5AB-7EDC3A53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4096-6DC7-492D-B62C-3296F924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1180-8489-4CF6-92A1-B8F7FF5E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76F4-91F8-4249-B9A5-2C604272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4C83-0B57-45B4-AABB-2EA841C3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74B1-9990-4EFC-A266-ECC428D6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0B0F-108A-41D8-A3D2-906BC327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199-EC48-479E-A88A-DB8AF606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977F-AA82-4361-96A8-94675D90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7BCE-AE06-4DF1-A0A3-1B010E02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3711-F587-46F3-BE0F-0F55EDE3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BC15-79E9-4B68-8C3C-138E7C1C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FCA4-1E5A-47E1-A31A-5C8062C7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5BD-59AC-4D5D-829A-6FFC6F4F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18E-9ECC-405A-9695-91701D8E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C6E-F23E-4ACE-B3AA-1C221CA5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3C1-C0AD-4DA6-A457-DD3CC29C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7C3-1D39-4398-B754-10684BBA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134-D483-432F-BE4C-5D7F41CC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37E-BB38-45BD-A42F-3E485D66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848D-F585-41D3-AD3A-71C0D2313F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6FEA-19A1-4A38-A8F3-3840CF3EF0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aditioninaction.org/bev/bevimages/bv046_Castro_ActdeRel_9-01.jpg&amp;imgrefurl=http://www.traditioninaction.org/bev/046bev12-31-2003.htm&amp;usg=__8HjlxK6ilklWf04hYarDLNo7OMg=&amp;h=405&amp;w=275&amp;sz=26&amp;hl=en&amp;start=9&amp;um=1&amp;tbnid=BJ1xVpi9eU6VOM:&amp;tbnh=124&amp;tbnw=84&amp;prev=/images%3Fq%3Ddemogogue%26hl%3Den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3.blogger.com/_-t4CIwXE1QQ/RvsVT7MT9SI/AAAAAAAAAQo/kJd8AoIofMU/s320/Jantzen_Anomalous.jpg&amp;imgrefurl=http://www.moreauartgalleries.com/%3Ftag%3Dimages&amp;usg=__ZH-p3wbmowUHmSKhIjvlJIaP25c=&amp;h=284&amp;w=320&amp;sz=13&amp;hl=en&amp;start=14&amp;um=1&amp;tbnid=QEw_Yw5M1gCmYM:&amp;tbnh=105&amp;tbnw=118&amp;prev=/images%3Fq%3Danomalous%26hl%3Den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c02.deviantart.com/images3/i/2004/119/9/9/Bizzare.jpg&amp;imgrefurl=http://soundingcliche.blogspot.com/2007/07/debrief-day-one.html&amp;usg=__yN3tcckqR_ItezHi2S9eOCpOHbI=&amp;h=600&amp;w=800&amp;sz=84&amp;hl=en&amp;start=11&amp;um=1&amp;tbnid=fGkzreD6lII6vM:&amp;tbnh=107&amp;tbnw=143&amp;prev=/images%3Fq%3Dbizzare%26hl%3Den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photobucket.com/albums/v339/junk_sampan/sad-puppy-762578.jpg&amp;imgrefurl=http://www.myspace.com/pamelacarron&amp;usg=__ov5PVUCndi8Tt4cdGB_Clu6z0cY=&amp;h=380&amp;w=400&amp;sz=30&amp;hl=en&amp;start=32&amp;um=1&amp;tbnid=E8msiFI239EzpM:&amp;tbnh=118&amp;tbnw=124&amp;prev=/images%3Fq%3Dspaking%26ndsp%3D20%26hl%3Den%26sa%3DN%26start%3D20%26um%3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rund is a verb form used as a nou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ing is an important part of life. Write 5 gerunds that describe something you like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tri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lan with ingenuity, invent, to bring about as the result of a scheme or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magogu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ader who exploits popular prejudices and makes false claims to get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3274920"/>
            <a:ext cx="33721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abu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ree from deception or error, set right in ideas o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29336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nnu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riness and dissatisfaction from lack of occupation or interest, bor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403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KA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research, presentations start tomo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essays due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cused Freewri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following sentences as the beginning of your fre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 stared down at the egg in her hand. There was no other choice, she had to call    FBI headquar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-Week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 a sentence if there isn’t one already.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omalou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, irregular, departing from the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438280"/>
            <a:ext cx="3505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sper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ing or derogatory statement, the act of slandering or def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izar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trange, unusual or atyp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2133720"/>
            <a:ext cx="4495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rusqu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upt, blunt, with no form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j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ax or persu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stig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unish severely, to criticize seve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2971800"/>
            <a:ext cx="3943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41:21Z</dcterms:created>
  <dc:creator>rebecca</dc:creator>
  <dc:description/>
  <dc:language>en-US</dc:language>
  <cp:lastModifiedBy>rebecca</cp:lastModifiedBy>
  <dcterms:modified xsi:type="dcterms:W3CDTF">2009-03-20T16:30:45Z</dcterms:modified>
  <cp:revision>2</cp:revision>
  <dc:subject/>
  <dc:title>DOL</dc:title>
</cp:coreProperties>
</file>